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9148-6874-466F-8C41-5440CF6C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1450-C970-4A00-9B0D-42C13AFC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A958-F635-4D04-AC60-8847C9B9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E293-7D90-41AB-ACB0-6E74084F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B66B-99B1-4572-AF7C-0920437B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47FE-CC72-40F6-9074-B8606EA8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CB9-4299-4BCC-A9C8-19F022C28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E09E-0E2F-4D5C-A022-A71F7F1DA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115A-1A5D-4A55-8EDA-C5958965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93F-CC9F-4345-93E5-7818A294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0D4-F1C4-4268-9323-55788A63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F9F-F5A3-45EF-B721-F31CEC3F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8C6-2B06-423C-88DE-7BC2DD89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54C5-E1E1-4D65-8A07-D20C5FE3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119-E456-4A2E-982C-8A29F2FB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8DCD-064D-4AD6-8E1F-D31F0A5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D2EA-98AE-4868-843B-A1925C5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E169-EF30-483A-BE04-8A68D3F1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4D8C-F543-403B-95D5-5EBD327F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C52-1BB6-47FA-A731-F21D602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E50-FA28-40E6-ACED-FEF1FD35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069F-D3F5-4192-A8A8-6967867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0FD-5B9C-49E2-87E2-45EAA6A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F83-7305-408A-9F69-95DCB74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0032-57AB-4F05-8714-9D368B3A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DFA5-78A4-4B16-9F4B-0C22A038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69A-F2C7-4A83-AFCB-50D111D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02A-3C44-4F08-BC97-695E0AC7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FA8-B7CE-4CA5-9057-7039CF27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0B5-7B06-440B-B918-60327CA3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C31-5806-4C06-ADA5-27C19EF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503-3126-4294-BB81-4307207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C0B-0387-4ED6-B121-984AEBD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D7E-7A3B-4194-BB24-379DAAD74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97E3-ED20-4A3D-ABAA-8FBB78441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stersdisctionary.com/" TargetMode="External"/><Relationship Id="rId2" Type="http://schemas.openxmlformats.org/officeDocument/2006/relationships/hyperlink" Target="http://faculty.washington.edu/chudler/nosek.html" TargetMode="External"/><Relationship Id="rId3" Type="http://schemas.openxmlformats.org/officeDocument/2006/relationships/hyperlink" Target="http://faculty.washington.edu/chudler/lob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atomy of the No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4190760"/>
            <a:ext cx="5105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nda Morgan, MS, OTR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ly Landry, OTA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1/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re Olfactory Syste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434600"/>
            <a:ext cx="33130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ers and cells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ith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carry the message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lb then sends the messages to the brain, including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olf1"/>
          <p:cNvPicPr/>
          <p:nvPr/>
        </p:nvPicPr>
        <p:blipFill>
          <a:blip r:embed="rId1"/>
          <a:stretch/>
        </p:blipFill>
        <p:spPr>
          <a:xfrm>
            <a:off x="4114800" y="228600"/>
            <a:ext cx="480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Temporal Lob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8098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s why smell is connected to memor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re your Temporal Lob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temporalLobe"/>
          <p:cNvPicPr/>
          <p:nvPr/>
        </p:nvPicPr>
        <p:blipFill>
          <a:blip r:embed="rId1"/>
          <a:stretch/>
        </p:blipFill>
        <p:spPr>
          <a:xfrm>
            <a:off x="3962520" y="228600"/>
            <a:ext cx="4952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t’s Test YOUR Olfactory Syste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around aromatherapy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guess the sc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your favorite and least favor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CACMIX7XCAQDX9OBCAWYQOXFCA4Q5FWHCAB6ACGMCAH39TK7CAOAIIANCA666Z2XCA46LDX4CA9K0S4DCAN0VCD4CA1KQ1FSCA6QKF0HCABM2AC0CAIKUZNZCARRJMA1CA5QZ7JXCAO7T1AUCA1BLQH3.jpg"/>
          <p:cNvPicPr/>
          <p:nvPr/>
        </p:nvPicPr>
        <p:blipFill>
          <a:blip r:embed="rId1"/>
          <a:stretch/>
        </p:blipFill>
        <p:spPr>
          <a:xfrm>
            <a:off x="4048200" y="685800"/>
            <a:ext cx="4867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ontent Placeholder 7" descr="ts.jpg"/>
          <p:cNvPicPr/>
          <p:nvPr/>
        </p:nvPicPr>
        <p:blipFill>
          <a:blip r:embed="rId1"/>
          <a:stretch/>
        </p:blipFill>
        <p:spPr>
          <a:xfrm>
            <a:off x="4648320" y="304920"/>
            <a:ext cx="419076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23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) Grapefru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ntent Placeholder 7" descr="thumbnailCAWHJTKT.jpg"/>
          <p:cNvPicPr/>
          <p:nvPr/>
        </p:nvPicPr>
        <p:blipFill>
          <a:blip r:embed="rId1"/>
          <a:stretch/>
        </p:blipFill>
        <p:spPr>
          <a:xfrm>
            <a:off x="4267080" y="380880"/>
            <a:ext cx="4496040" cy="586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anil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ontent Placeholder 7" descr="CA4V6X57CA64GCEUCA704G5BCA8X1219CARU7DORCA701OYECAN071ZICASD7HXPCAP4B3T6CAXHBACOCA0NXC7SCAYHA75HCA50DHWYCAXOP53RCA0R8ODWCAY4PNWKCA63EAUNCA54BY4ECA3DKNKL.jpg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6096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ven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ontent Placeholder 7" descr="images2.jpg"/>
          <p:cNvPicPr/>
          <p:nvPr/>
        </p:nvPicPr>
        <p:blipFill>
          <a:blip r:embed="rId1"/>
          <a:stretch/>
        </p:blipFill>
        <p:spPr>
          <a:xfrm>
            <a:off x="472428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4419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roli 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Orange Leaf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tent Placeholder 7" descr="images2bh.jpg"/>
          <p:cNvPicPr/>
          <p:nvPr/>
        </p:nvPicPr>
        <p:blipFill>
          <a:blip r:embed="rId1"/>
          <a:stretch/>
        </p:blipFill>
        <p:spPr>
          <a:xfrm>
            <a:off x="5410080" y="38088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) Peppermi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images.jpg"/>
          <p:cNvPicPr/>
          <p:nvPr/>
        </p:nvPicPr>
        <p:blipFill>
          <a:blip r:embed="rId2"/>
          <a:stretch/>
        </p:blipFill>
        <p:spPr>
          <a:xfrm>
            <a:off x="5334120" y="403848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ter's Dictionary. Retrieved on 1/27/10 from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www.webstersdictionary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science for Kids. Retrieved 1/27/10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faculty.washington.edu/chudler/nosek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science for Kids. Retrieved 1/27/10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http://faculty.washington.edu/chudler/lobe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at Sm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hat is Anatomy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ontent Placeholder 6" descr="CAGG5Q9ICAQFX3ETCAUR22TLCASSZ24CCAG1JN9DCAW3VPC5CA7U0APUCAFHPW31CA4ZZR25CAPIY9COCAKIHQ9CCAC11M3HCA90LAJTCA916TXKCAVL09WMCA20PX7UCAB548QJCA7LGMOXCAD9N1NV.jpg"/>
          <p:cNvPicPr/>
          <p:nvPr/>
        </p:nvPicPr>
        <p:blipFill>
          <a:blip r:embed="rId1"/>
          <a:stretch/>
        </p:blipFill>
        <p:spPr>
          <a:xfrm>
            <a:off x="4572000" y="609480"/>
            <a:ext cx="3962520" cy="5639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makeup of an org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ense of Smell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tent Placeholder 4" descr="CARORS25CA7JLDSXCAREVEG9CA24KHZ1CA831V01CA905GF5CAJLS0RUCAY3MX9KCAI8I3HACATOA41SCAQQ1FAYCA24B49LCA9DJSQTCAU94RWUCACBK0JYCABTSJK2CAUGBU0JCAMJZ42ACAHHZRGU.jpg"/>
          <p:cNvPicPr/>
          <p:nvPr/>
        </p:nvPicPr>
        <p:blipFill>
          <a:blip r:embed="rId1"/>
          <a:stretch/>
        </p:blipFill>
        <p:spPr>
          <a:xfrm>
            <a:off x="4267080" y="38088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8098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ed the least important se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ld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s more on a subconscious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Joke Time!!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ontent Placeholder 4" descr="images.jpg"/>
          <p:cNvPicPr/>
          <p:nvPr/>
        </p:nvPicPr>
        <p:blipFill>
          <a:blip r:embed="rId1"/>
          <a:stretch/>
        </p:blipFill>
        <p:spPr>
          <a:xfrm>
            <a:off x="4876920" y="1143000"/>
            <a:ext cx="396216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ld Factory does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smell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2367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Olfactory System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038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e of Sm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ion of chemicals floating in the 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molcules enter the nose and dissolve in  mucous within a membrane called Olfactory Epithel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s~Olfactory epithelium is 7 cm up from the nostr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olf1"/>
          <p:cNvPicPr/>
          <p:nvPr/>
        </p:nvPicPr>
        <p:blipFill>
          <a:blip r:embed="rId1"/>
          <a:stretch/>
        </p:blipFill>
        <p:spPr>
          <a:xfrm>
            <a:off x="4191120" y="304920"/>
            <a:ext cx="45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2367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 nose hairs have a purpos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ontent Placeholder 4" descr="CA5LL6F0CAREF6RGCANDJT0XCADBXQ8HCA1NXV5ECADKHSCMCABT87CICAVPXZ3TCAU28JHBCAEF3KA7CAF1JPL2CA41OOMICAXM24CYCAXW5089CANQ1N1MCAX38IMMCA2M8TQOCABUE4UUCAI8B2LV.jpg"/>
          <p:cNvPicPr/>
          <p:nvPr/>
        </p:nvPicPr>
        <p:blipFill>
          <a:blip r:embed="rId1"/>
          <a:stretch/>
        </p:blipFill>
        <p:spPr>
          <a:xfrm>
            <a:off x="4952880" y="914400"/>
            <a:ext cx="403884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800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ells or cilli ~olfactory receptors that respond to particular chemic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s ~ 40 million olfactory 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man Sheherd dog~ 2 billion olfactory 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ells, or cilia or olfacotry receptors react and send information to the olfactory bu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factory sends message to the brain (limbic system).emotional behavior,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ell can bring up 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313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nosmia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ontent Placeholder 4" descr="CAWY43CICANNN5ETCAEKE6WICA8CB7OPCAR7PR6SCA0NCELRCAIBZOM5CAH87R9ZCA20NY9XCALILFMUCAIOEGY1CATQR8RUCADVFHL5CA6BSBK4CALN34EBCABIXQ4GCAQF463BCA3OLECNCA8T342B.jpg"/>
          <p:cNvPicPr/>
          <p:nvPr/>
        </p:nvPicPr>
        <p:blipFill>
          <a:blip r:embed="rId1"/>
          <a:stretch/>
        </p:blipFill>
        <p:spPr>
          <a:xfrm>
            <a:off x="5181480" y="457200"/>
            <a:ext cx="3733920" cy="6095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osm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2 million in US ha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nse of smel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ous head inj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age to the olfactory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kinson’s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zheimer’s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 less appet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ing smell memory linked to de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ble to smell 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tors do a scratch n sniff odor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505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hhh…Choo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ontent Placeholder 4" descr="CAKP0ICCCASURB13CA08GVDICAAW1SETCAQD5IOZCAWQZO7CCAFQZ5OCCAOEVKAWCA09O9TWCAXFALOQCAZFSANSCAEVXPZ0CADQU8QPCAM91MB2CA42ZAFXCAF8DF87CAJGL8OGCAT057DXCAPXKGI3.jpg"/>
          <p:cNvPicPr/>
          <p:nvPr/>
        </p:nvPicPr>
        <p:blipFill>
          <a:blip r:embed="rId1"/>
          <a:stretch/>
        </p:blipFill>
        <p:spPr>
          <a:xfrm>
            <a:off x="5105520" y="457200"/>
            <a:ext cx="3581280" cy="5334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eeze (sternutation)~ your bodies way of removing an irritation from your n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ckle-message sent to brain-message sent to muscles-snee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close your eyes when you snee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eeze~tiny particles out at 100 miles per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Your Mouth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2:26:43Z</dcterms:created>
  <dc:creator>User CFCC</dc:creator>
  <dc:description/>
  <dc:language>en-US</dc:language>
  <cp:lastModifiedBy>otusers</cp:lastModifiedBy>
  <dcterms:modified xsi:type="dcterms:W3CDTF">2010-02-15T16:07:52Z</dcterms:modified>
  <cp:revision>37</cp:revision>
  <dc:subject/>
  <dc:title>Anatomy of the Nose</dc:title>
</cp:coreProperties>
</file>